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85178"/>
        <c:axId val="45045022"/>
      </c:barChart>
      <c:catAx>
        <c:axId val="56085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45022"/>
        <c:crosses val="autoZero"/>
        <c:auto val="1"/>
        <c:lblAlgn val="ctr"/>
        <c:lblOffset val="100"/>
        <c:noMultiLvlLbl val="0"/>
      </c:catAx>
      <c:valAx>
        <c:axId val="45045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85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8CF-19E7-407A-9034-6C34F5C7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20A-DFF9-4149-B02F-028895EC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51A-04ED-4D2A-ACB4-18B4443F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46A-5AF8-475E-A462-16637DF4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7B5-7BFE-4E1E-BDE8-9AAE1C83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F99-5CE5-47BF-B840-00BA6C17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7D9-DE70-46DA-97B7-8D3928A8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FF7-2797-40E3-A2B3-628F5224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43E-6EC7-4D15-986E-E1D7954B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EB5-051F-4104-80F7-07FD1699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12C-25A7-4E96-8234-5E1FEEBE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408-88EA-445C-A557-990D848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AFAEA-6A69-4FBE-A08B-1FF53A6988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