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76645"/>
        <c:axId val="68019536"/>
      </c:barChart>
      <c:catAx>
        <c:axId val="25976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19536"/>
        <c:crosses val="autoZero"/>
        <c:auto val="1"/>
        <c:lblAlgn val="ctr"/>
        <c:lblOffset val="100"/>
        <c:noMultiLvlLbl val="0"/>
      </c:catAx>
      <c:valAx>
        <c:axId val="68019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76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471-082C-430B-8DD2-5CC29577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46C-9BC9-4D3A-AFBE-B6DB1E0E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7E7-43AB-44E6-B549-E8CA67CF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28D2-0DAB-4270-AA48-F69E04B9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949-4D8E-4767-A45B-EDFF73BE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9A9C-0D6F-45F9-B6CE-F12FFE41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157-227D-4B49-9668-B4332736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0C2-0E85-4095-BC7C-5CFCA740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011-F439-4269-BB1E-7F543858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1D4-7A4E-4FFB-BAD4-0E1372B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CC0E-B852-4E61-BF30-8A95FBE9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373-827E-4BB4-81C7-B580C90D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DA994-2E01-471B-A1F6-E62B16D76A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