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824538"/>
        <c:axId val="77930887"/>
      </c:barChart>
      <c:catAx>
        <c:axId val="11824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30887"/>
        <c:crosses val="autoZero"/>
        <c:auto val="1"/>
        <c:lblAlgn val="ctr"/>
        <c:lblOffset val="100"/>
        <c:noMultiLvlLbl val="0"/>
      </c:catAx>
      <c:valAx>
        <c:axId val="77930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24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0B7-FE60-4D2F-957E-78E9AD49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BED6-F151-4A6B-8222-E49B31B8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65D1-DB35-4D88-9082-890C0A5E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EBD-EBC0-4982-94E8-DF5FC46E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F61-F79A-421C-BEF0-10D46524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DACE-D210-4DA5-8429-CA3D45BC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F988-50E4-4640-A18F-389890BC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7D8-56FB-43C4-8E62-62181F65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08B-826B-4341-93FC-A265E369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C35-0263-4A04-A01A-41717240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E4A-E2FF-49B7-B946-1DA2DAEE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0994-6D6F-47A7-95C5-4A66E21C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A63B5-F62F-44DB-89E4-129BDAF05A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