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86412"/>
        <c:axId val="30262503"/>
      </c:barChart>
      <c:catAx>
        <c:axId val="35186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2503"/>
        <c:crosses val="autoZero"/>
        <c:auto val="1"/>
        <c:lblAlgn val="ctr"/>
        <c:lblOffset val="100"/>
        <c:noMultiLvlLbl val="0"/>
      </c:catAx>
      <c:valAx>
        <c:axId val="30262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6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853-C8D1-4FA3-AFAE-FB3C7992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762-03B6-4E67-A6EC-B1FCCE4B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E08-95D5-4EFC-94BE-483488C8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420-F175-4E96-916A-180A115D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E9D-62E2-4CCB-8BF2-5474615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9D6-81CC-47A9-B80C-2381517D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ABA-8031-4F8D-9D5F-0314CB2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F1C-E906-42EC-8B36-9C61340D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FCE-3A52-4C04-A9C9-180F116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00E-891B-437C-9F48-B6BEE2E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660-82BD-4E21-BEBA-1770B857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2AE-934A-4D78-8F2F-742760B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CB2F-BB3A-4F32-BA22-7C493DF21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