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41561"/>
        <c:axId val="62039443"/>
      </c:barChart>
      <c:catAx>
        <c:axId val="76141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39443"/>
        <c:crosses val="autoZero"/>
        <c:auto val="1"/>
        <c:lblAlgn val="ctr"/>
        <c:lblOffset val="100"/>
        <c:noMultiLvlLbl val="0"/>
      </c:catAx>
      <c:valAx>
        <c:axId val="62039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41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55E-280F-430A-9D69-4F97F8F2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3D1-60FA-4F87-8A0D-929FFD20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3AF-A6D3-4748-AAA9-85428FF8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3E9-CA84-4E30-B53B-71531166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C48-70E1-499F-8FE8-8C1CE8AA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8BF-8BA3-4F32-811F-6731122E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401-D5B1-4D82-9145-6DD6992E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6AD-6F9A-4F69-8A29-4C7257E3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5BC-CECE-4819-B1CA-12222D90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638-3D8A-4DFA-B5C8-7951513F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C7D-8425-411C-AB8A-755DF494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D0B2-9E41-414B-AF8A-3E27B67D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FEE9C-EDA6-41F4-A2C0-BBB0158195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