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97911"/>
        <c:axId val="45577726"/>
      </c:barChart>
      <c:catAx>
        <c:axId val="35197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77726"/>
        <c:crosses val="autoZero"/>
        <c:auto val="1"/>
        <c:lblAlgn val="ctr"/>
        <c:lblOffset val="100"/>
        <c:noMultiLvlLbl val="0"/>
      </c:catAx>
      <c:valAx>
        <c:axId val="45577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97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CF0-0E38-45CF-94ED-30207588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785-B171-41F2-9E74-4F942DA3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1B6-D628-4B5D-B39D-C24FE6FA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A8C-D034-4522-A7AC-3D62BA92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F32-AA93-459D-818F-CCA307C7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534-ECDE-41C2-8E15-01B5F916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A29-0B4C-4886-85FA-3B903AC3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C70-9CE3-4C28-8355-739AE1C7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FBF-42B4-4640-92D2-0F0628E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F42-18D3-476C-AEC4-097FEB62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772-68FB-45D2-BBED-A66E0CBE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58B-128A-4D35-A8CA-4432B95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000B9-FB84-4A7D-BF1C-83A18E79D4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