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140669"/>
        <c:axId val="33873997"/>
      </c:barChart>
      <c:catAx>
        <c:axId val="70140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73997"/>
        <c:crosses val="autoZero"/>
        <c:auto val="1"/>
        <c:lblAlgn val="ctr"/>
        <c:lblOffset val="100"/>
        <c:noMultiLvlLbl val="0"/>
      </c:catAx>
      <c:valAx>
        <c:axId val="33873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40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07FA-87DE-4A7A-8E7F-1627FEAD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903-900F-4287-B4FF-C1FD5894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360-DD12-4397-B6CE-5F81B0F4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D229-144A-4E0E-8C37-41133E39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167A-2355-4B69-9638-C1170CB8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A016-C10A-4FAA-8055-BDA466D0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3A31-DCFA-43BB-A29C-D8D7D0AE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4D7B-6C58-4CAF-8EC4-18CF4772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CDE5-1A14-4B06-B835-9540F83D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F29C-1E9F-4CD3-A4FA-04945D98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2C2B-F86C-48FD-9010-C4EB0EFB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34B2-7120-4E75-943E-B8DA7C37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B3BFB-8C3D-453B-95C7-9335C9324B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