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98767"/>
        <c:axId val="67742568"/>
      </c:barChart>
      <c:catAx>
        <c:axId val="511987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42568"/>
        <c:crosses val="autoZero"/>
        <c:auto val="1"/>
        <c:lblAlgn val="ctr"/>
        <c:lblOffset val="100"/>
        <c:noMultiLvlLbl val="0"/>
      </c:catAx>
      <c:valAx>
        <c:axId val="67742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987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989-A1CB-4BC2-8C63-E17D341D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E12-857A-4ADA-9356-CCD9A6BF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B26-7827-45B9-BB22-4087B10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C31-5871-4544-B9E1-34413564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D0E-4F31-4CE3-AED7-6F59B8E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162-7246-44BE-B61A-19BAD41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F2DA-F4BB-4BFB-990E-BB4AED0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D42-55DD-4A88-813E-324FC4D9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9780-3A12-4C67-BCFD-3FC793F2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CE8-28CB-446C-862E-22193098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9CF-1B99-4105-AC95-80E0F9B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BAA-130A-494D-9CDC-CF887E7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AC2C5-1DF1-461E-8B1A-B52FBB12BD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