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43981"/>
        <c:axId val="34822023"/>
      </c:barChart>
      <c:catAx>
        <c:axId val="51043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22023"/>
        <c:crosses val="autoZero"/>
        <c:auto val="1"/>
        <c:lblAlgn val="ctr"/>
        <c:lblOffset val="100"/>
        <c:noMultiLvlLbl val="0"/>
      </c:catAx>
      <c:valAx>
        <c:axId val="34822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43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59E-FC44-4E1F-867C-1B2ACEE0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3B9-4819-4DAD-A44B-98208243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A7B-7E69-4586-BE26-CAD1D275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500-830E-4C1D-8412-BFB0C69D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34A-F39F-45B8-8357-742BF04F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C30-A1D5-44BF-8DAF-040962EF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DA1-8835-4EEE-9A23-01CA4503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8C9-5F49-45D0-AEBE-E7129E59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AE7-47E2-4116-B03E-BA8A99A6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A1C-ED49-4733-8C89-7EDBE2B9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01B-79DA-43BE-BA3F-83E566AA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082-DDAA-4573-9EBD-4900C9AE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E73C5-5AE8-467E-9768-2AD9476B88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