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78298"/>
        <c:axId val="66463017"/>
      </c:barChart>
      <c:catAx>
        <c:axId val="95878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63017"/>
        <c:crosses val="autoZero"/>
        <c:auto val="1"/>
        <c:lblAlgn val="ctr"/>
        <c:lblOffset val="100"/>
        <c:noMultiLvlLbl val="0"/>
      </c:catAx>
      <c:valAx>
        <c:axId val="66463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78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EA6-82D1-44A5-9ACF-EE98437D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2EB-9252-48A9-A20E-0F5534B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3CD-192B-47B4-A22C-BE29CDF7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0F3-8203-4FE7-9851-56AD2C7F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8D4-DC77-445D-A4E4-C89BEB89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5A1-97DC-4D7B-8D18-063EAB45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474-79A1-45D2-B308-6A0FA98C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8CE-AB94-41A2-BABB-BC6BF788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8DA-098A-4FC6-AFB4-6367DB63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ECF-EBB7-4FB6-BE00-7163F9E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0D7-8BF3-4F0A-BD30-00DFAF0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5FC-9E9A-4418-8802-33341DA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F653D-9894-4A55-BE2C-024A06F4A1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