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16094"/>
        <c:axId val="32320311"/>
      </c:barChart>
      <c:catAx>
        <c:axId val="93816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0311"/>
        <c:crosses val="autoZero"/>
        <c:auto val="1"/>
        <c:lblAlgn val="ctr"/>
        <c:lblOffset val="100"/>
        <c:noMultiLvlLbl val="0"/>
      </c:catAx>
      <c:valAx>
        <c:axId val="32320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16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705-3B22-4063-9EF4-4BD78C8D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C70-2181-49C4-B990-69DB1C3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A47-A598-4E70-82B9-6785CB23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F0B-863D-4428-A1EB-73CFF82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27B-3AA3-4940-941F-2F7101E2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EDC-EB87-407A-BFD0-3F7CA45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2B8-2D90-478D-9DBB-7329422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0D3-3ED9-4C9D-836A-08C36B8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041-4EAF-4413-A636-DA1B369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F07-BE7C-4027-9920-B43072A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EA2-EB75-4C9B-8341-805D4385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080-3F43-4436-93A5-0F42431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017E3-60B3-47FE-9DA1-74E3804DC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