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73747"/>
        <c:axId val="18858735"/>
      </c:barChart>
      <c:catAx>
        <c:axId val="62873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8735"/>
        <c:crosses val="autoZero"/>
        <c:auto val="1"/>
        <c:lblAlgn val="ctr"/>
        <c:lblOffset val="100"/>
        <c:noMultiLvlLbl val="0"/>
      </c:catAx>
      <c:valAx>
        <c:axId val="18858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3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E26-B570-4CBA-AF2D-D6B41BEA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E5E-27D5-4E52-92D2-B0F29FC2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574-0635-45A3-B1EB-38D2392A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AD7-FABD-4AD5-8FBB-4BFC195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B53-1EB7-4273-B79E-BCB7D32A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647-1873-4C85-BC9E-38CDF092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ABA-CF3E-4E07-8ACD-7BC928B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E59-5316-4EC0-98F5-CAB152E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BC3-B57B-42D9-AB73-7E4CD82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396-0322-4D44-9282-2FA55EC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3E8-0C8D-47D7-8508-677D10D7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BE2-CD30-4737-9BEB-084EBF3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FF832-325F-4203-BF9B-31B5E93DC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