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750585"/>
        <c:axId val="58638505"/>
      </c:barChart>
      <c:catAx>
        <c:axId val="527505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638505"/>
        <c:crosses val="autoZero"/>
        <c:auto val="1"/>
        <c:lblAlgn val="ctr"/>
        <c:lblOffset val="100"/>
        <c:noMultiLvlLbl val="0"/>
      </c:catAx>
      <c:valAx>
        <c:axId val="586385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505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32B8-17E8-4980-9780-55B41223D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4E8A-B675-4BD8-9688-43479652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69F7-4BF1-4550-B3B6-7682AB2BC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300F-15BE-44BE-BA4C-EA0DED3C2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22CF-A593-4E7D-B967-3C415ECF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D916-8EF3-4EBB-8CFD-683CCA87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44CF-9BA9-42DA-AC5B-11F26359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FFA6-D409-4C3B-89D1-09760FDC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4B2B-4DD4-4D7C-9638-2FAD82C5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6C2F-B7C0-43B1-8508-31F4F896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BAD1-D09C-4590-B477-510000C0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E030-AD72-4DEE-82F9-CB28BACD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1E3E8-4ADF-4547-B7F7-2FBE361168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