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40670"/>
        <c:axId val="29622697"/>
      </c:barChart>
      <c:catAx>
        <c:axId val="84240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22697"/>
        <c:crosses val="autoZero"/>
        <c:auto val="1"/>
        <c:lblAlgn val="ctr"/>
        <c:lblOffset val="100"/>
        <c:noMultiLvlLbl val="0"/>
      </c:catAx>
      <c:valAx>
        <c:axId val="29622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40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3D4-5F33-4496-8618-FFA7A160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CF0-08B2-42FB-8698-D5CFC50B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2E1-0856-4397-8B84-8357CD823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8477-8C77-49E9-94DC-FD124E7B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015E-1988-474D-9D7C-BBB36CE3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C13F-24D0-4A63-A3A7-516BA39C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78D-D3CA-46C6-A3AF-E872C491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887-6324-4704-A688-AC2D3266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7F31-A00B-4722-A19D-8FC58B8D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CC8-A686-49A6-BC94-194E4A93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354A-241E-4EB5-A001-B2067692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3A0A-A952-4325-A35C-CEBDA91A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C304A-B2FF-4EEE-AAA0-3792909BC8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