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3306"/>
        <c:axId val="91798815"/>
      </c:barChart>
      <c:catAx>
        <c:axId val="1943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98815"/>
        <c:crosses val="autoZero"/>
        <c:auto val="1"/>
        <c:lblAlgn val="ctr"/>
        <c:lblOffset val="100"/>
        <c:noMultiLvlLbl val="0"/>
      </c:catAx>
      <c:valAx>
        <c:axId val="91798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3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1F5-2DC7-4B9D-9D99-7C430281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A77-7BC6-4873-B8CB-B5EE3CA0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79A-D4BD-4DEC-ADE4-722F8D19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DCD-31D3-4FFD-A39E-38A8D2B5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052-B8D0-4B15-A46D-ED1DDE90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130-85AD-4200-8387-8369469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E33-F9D0-4F15-81F2-70D54E3F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093-15A7-4FF6-B051-D3BDE843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483-FA03-4F6B-886E-1B15E771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7B8-990C-46EC-A761-E253C89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760-6459-413E-A491-932298F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F0D-037A-40F2-A56C-16B087E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D70DE-BE9F-4EC6-B838-02F46F79C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