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9705"/>
        <c:axId val="31391115"/>
      </c:barChart>
      <c:catAx>
        <c:axId val="14959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1115"/>
        <c:crosses val="autoZero"/>
        <c:auto val="1"/>
        <c:lblAlgn val="ctr"/>
        <c:lblOffset val="100"/>
        <c:noMultiLvlLbl val="0"/>
      </c:catAx>
      <c:valAx>
        <c:axId val="31391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9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741-4A15-4432-930D-E2682905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430-3D55-4CDF-95E3-B63C18E5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F68-0435-4110-9AFC-C01B9ECA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C5F-4A88-4018-88D1-A4C52C32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804-322C-46CD-9D7E-4F0C429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E66-7F28-453F-AF89-815BEDA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2EA-C356-472E-AC10-8EAE4DB0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BAF-B361-47E4-B537-8C51745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703-F467-4B3B-990B-586BB978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E26-4CDF-4214-A2B7-9A2C8CD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C18-4DBD-481A-A59C-FDDF3F9F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00B-8746-45F4-8044-BA9EBBF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F78A-241E-4288-87F3-BBF19BB6F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