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066859"/>
        <c:axId val="41707228"/>
      </c:barChart>
      <c:catAx>
        <c:axId val="510668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07228"/>
        <c:crosses val="autoZero"/>
        <c:auto val="1"/>
        <c:lblAlgn val="ctr"/>
        <c:lblOffset val="100"/>
        <c:noMultiLvlLbl val="0"/>
      </c:catAx>
      <c:valAx>
        <c:axId val="417072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0668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6389-CD6F-4CA8-B97F-9C8561574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3FB8-9873-40B8-A6E1-DF824E13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2BA6-9D8F-4348-8537-9F226D90D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1306-2CC5-4C77-9566-F2351DD0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39AC-2340-4BFE-937A-97EF6875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4F58-DC81-428D-A10C-87E89364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8486-0A18-4AFE-BD02-FBC4587B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DB62-3FB4-45B0-B623-969424C1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EA49-A5F2-4186-9B5F-2D01F224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1730-B034-4029-BCA4-2F7AC102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A7AD-7D8F-43D2-9A76-8604CEF7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7482-305F-42C4-AE05-4DB8DF9D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07603-9D2D-4571-9720-B5774E5D8B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