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0959"/>
        <c:axId val="51348543"/>
      </c:barChart>
      <c:catAx>
        <c:axId val="2790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8543"/>
        <c:crosses val="autoZero"/>
        <c:auto val="1"/>
        <c:lblAlgn val="ctr"/>
        <c:lblOffset val="100"/>
        <c:noMultiLvlLbl val="0"/>
      </c:catAx>
      <c:valAx>
        <c:axId val="51348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0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09C-D456-40BE-8D6C-087033F9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376-A01A-40B6-A9E2-C54C152B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CC9-1A0F-47B9-8277-BFB04C1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C61-DF42-421B-BEBC-13566E0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2EB-F93A-4A24-9D2A-0C2B08E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D4B-A8E2-41C2-B98F-432137E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667-F555-4F09-BD0D-9E48871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324-2BC6-44D5-92CB-3911628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D85-4395-4653-B583-BE50C8D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6FE-8CC6-4800-A571-F60E72C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B6D-1478-46B8-8029-699C1C7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737-5059-4D75-B0B5-7A33C63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FD778-32DD-47E2-9F7A-88C3CC5B1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