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61959"/>
        <c:axId val="69316611"/>
      </c:barChart>
      <c:catAx>
        <c:axId val="41461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16611"/>
        <c:crosses val="autoZero"/>
        <c:auto val="1"/>
        <c:lblAlgn val="ctr"/>
        <c:lblOffset val="100"/>
        <c:noMultiLvlLbl val="0"/>
      </c:catAx>
      <c:valAx>
        <c:axId val="69316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61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F7A-B14E-4260-AC29-31EB9385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AC3-A4AF-4047-867E-5980CCB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56A-7A94-4086-826E-38E66642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9F3-AF1C-475A-A8E0-B3307987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6C2-F000-4D76-A675-752E3C3F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A3E-B58C-4CC7-BE2C-4CCD721D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680-A1FF-4671-A2C8-4374565B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59E-7B50-4D02-A4EE-5B2EC831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7EA-0A92-4A57-AD68-2B3803AA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BB5-8044-418C-96B9-DBB6D02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B05-0FEB-4B28-9779-CE2B1105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D8A-FCEB-40FF-BA53-22F914B3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E9A2E-3F0C-4944-9606-F658D39F89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