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05825"/>
        <c:axId val="62425109"/>
      </c:barChart>
      <c:catAx>
        <c:axId val="20105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5109"/>
        <c:crosses val="autoZero"/>
        <c:auto val="1"/>
        <c:lblAlgn val="ctr"/>
        <c:lblOffset val="100"/>
        <c:noMultiLvlLbl val="0"/>
      </c:catAx>
      <c:valAx>
        <c:axId val="62425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05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5FC-97CC-439A-873E-89E69D22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FC7-79DF-44CD-B8D5-4F7C08C3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AE5-7D0D-40C6-AFA7-891908B9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A94-F2F3-4AE7-B110-16BA07BD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07D-CC91-4899-B466-C4C02F9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D8B-1B29-46D9-BC18-8208621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005-A7CE-4C48-BADB-AF83D451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EF9-8147-4711-8966-755D07DD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9F3-6369-4F85-8810-24429F6C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789-DCE3-4489-9FB9-07CB22AF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91E-4AD9-45B6-A401-0D08EC8D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840-27DC-4C82-8EC1-A07ECCC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32F7A-8F52-4229-AA02-E39854A1B9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