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800883"/>
        <c:axId val="19799014"/>
      </c:barChart>
      <c:catAx>
        <c:axId val="258008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799014"/>
        <c:crosses val="autoZero"/>
        <c:auto val="1"/>
        <c:lblAlgn val="ctr"/>
        <c:lblOffset val="100"/>
        <c:noMultiLvlLbl val="0"/>
      </c:catAx>
      <c:valAx>
        <c:axId val="197990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8008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0D65-7BE5-4A97-8CBD-042B8D604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3CB3-1589-4CCC-AECD-6AC8AE442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713C-2088-4139-9E45-9A5DCA763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2FC1-54B0-4FB8-B7D1-C3C810C01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B266-5E5D-44A5-8440-29887524E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4BB7-A30B-403E-9EB0-721870BDE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B44D-C52D-4A90-A318-7DFF31E96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25C9-8632-4AB7-A6DE-D799895D5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2E95-D731-4370-9B32-269A35A61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AF6F-A514-4458-A5D2-9799AC0EF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28D0-364D-49A6-B953-5A78E5762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D06E-FCE9-413E-B789-DE5075D65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D1E5C2-9EEC-467B-B616-729891D9BA4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