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021737"/>
        <c:axId val="74227368"/>
      </c:barChart>
      <c:catAx>
        <c:axId val="250217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27368"/>
        <c:crosses val="autoZero"/>
        <c:auto val="1"/>
        <c:lblAlgn val="ctr"/>
        <c:lblOffset val="100"/>
        <c:noMultiLvlLbl val="0"/>
      </c:catAx>
      <c:valAx>
        <c:axId val="7422736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0217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F4F7-9F6C-4020-9116-8FB0C2C99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6250-63A5-4EC5-BFB3-2819892D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0500-063F-42F7-BAB6-8DF249365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3137-011D-42B6-8B14-EE8B95234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887D-A72E-4F25-A6A0-EEC2ECF4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82DC-2997-41EB-AF56-74F26A666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C2F8-82F9-4838-9C4C-FF1D3BBF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BBDE-40C0-4C2F-9E4D-4E37FD3C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BECC-0B54-40CE-A7C9-2A020A5BC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3307-CA4A-46D0-852A-624BABE4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7748-7A4E-46B3-9090-394E04AC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A1D1-9E9B-4286-A3AF-F2F0B619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E4B71-75E3-40B1-B655-D1654BF13D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