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7166430"/>
        <c:axId val="37118286"/>
      </c:barChart>
      <c:catAx>
        <c:axId val="4716643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118286"/>
        <c:crosses val="autoZero"/>
        <c:auto val="1"/>
        <c:lblAlgn val="ctr"/>
        <c:lblOffset val="100"/>
        <c:noMultiLvlLbl val="0"/>
      </c:catAx>
      <c:valAx>
        <c:axId val="3711828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16643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46010-A8B4-4A0C-A4CE-D66BA3162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C5E1B-6BEF-4EE6-8A34-C215E75C9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41691-5952-4C5A-8F59-591DBB2FE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75A25-5274-4B68-961D-FB312CA1A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20E7D-0CA1-4CB6-AC82-CADC4947E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34163-772B-4515-84B1-E623EA2B2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BB676-CC0B-424C-8040-CF5809128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EA3AE-FDBE-4921-A037-9A325C85A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71D87-2936-4860-8035-00B551E0B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37B92-35EF-4472-8FA8-74920F0D6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A01D3-3BB5-44C8-9072-F6EB51A70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786CB-34AF-488C-BE9C-8FDE5909B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AB9F3E-ADC5-4875-A666-8DB27D75625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