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74581"/>
        <c:axId val="68596585"/>
      </c:barChart>
      <c:catAx>
        <c:axId val="41574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96585"/>
        <c:crosses val="autoZero"/>
        <c:auto val="1"/>
        <c:lblAlgn val="ctr"/>
        <c:lblOffset val="100"/>
        <c:noMultiLvlLbl val="0"/>
      </c:catAx>
      <c:valAx>
        <c:axId val="68596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74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52D-B48E-4392-9815-3F0E31F1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0DC-D39C-40D5-B1B2-1FA02092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7B4-16CB-48B5-AB03-3E96D20A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600-6ED1-4340-BDB9-49D0488F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ED1-CD59-4C0A-80C3-679ED7FC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136-6089-453F-8283-B9295D3B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D26-3449-4276-A4EE-BE0B8F6D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F40-021B-4BC9-91EB-76C99903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E83-4F95-4C1C-92BE-BA5B0670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CA0-3788-4D85-9F21-1545132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ACE-5911-4A6D-B997-DD6797B6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ED6-C1D6-4F9E-AB20-AEC33752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1A72A-D558-43B2-9997-109A1B832A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