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155"/>
        <c:axId val="14074749"/>
      </c:barChart>
      <c:catAx>
        <c:axId val="710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4749"/>
        <c:crosses val="autoZero"/>
        <c:auto val="1"/>
        <c:lblAlgn val="ctr"/>
        <c:lblOffset val="100"/>
        <c:noMultiLvlLbl val="0"/>
      </c:catAx>
      <c:valAx>
        <c:axId val="14074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544-9EC5-4C25-BA1A-1213AA41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897-4860-457B-BB7B-4AEE5129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FCD-8607-4A4C-9681-04742AF5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067-96FF-4EEC-A1A9-15ECA7C4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815-31AD-476B-95A0-18E3CE9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E09-8D35-4C1B-846E-C83DF629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E87-1757-4737-8EC4-089E9931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622-63FA-4896-B611-09D751C3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628-4368-4625-B4CD-11955342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D64-5E4B-4A5C-9951-30550FC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BB9-0381-4D92-A482-4E01623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E37-731D-4652-9039-7791104C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66EB-82ED-4642-81BA-B5F27CDF9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