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52607"/>
        <c:axId val="19731402"/>
      </c:barChart>
      <c:catAx>
        <c:axId val="84152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31402"/>
        <c:crosses val="autoZero"/>
        <c:auto val="1"/>
        <c:lblAlgn val="ctr"/>
        <c:lblOffset val="100"/>
        <c:noMultiLvlLbl val="0"/>
      </c:catAx>
      <c:valAx>
        <c:axId val="19731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52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13F-98B3-4514-994E-8C44D299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787-B749-44F0-A91E-2345A2F9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8D7-1DBF-4343-A73E-F25A0000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618-9143-4FFE-BD7C-6F917B6E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013-41AA-4DB3-9A69-DA6C06E3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EB1-BFA7-46B5-BCE3-7F3F9A0A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CDE-1262-4708-B576-820A6F74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3AF-9CF9-4336-88CF-D050DB3D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D8F-BDDD-4F6A-82D3-B732D335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FC4-8863-4DA5-A610-65B26D07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A84-95FA-4930-81A9-0B944E45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63E-8AD9-40D1-9D19-BBE96E4B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88BA8-FE7B-458E-9241-ADF4F29550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