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15033"/>
        <c:axId val="61591295"/>
      </c:barChart>
      <c:catAx>
        <c:axId val="38615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91295"/>
        <c:crosses val="autoZero"/>
        <c:auto val="1"/>
        <c:lblAlgn val="ctr"/>
        <c:lblOffset val="100"/>
        <c:noMultiLvlLbl val="0"/>
      </c:catAx>
      <c:valAx>
        <c:axId val="61591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15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562-1F41-4CF9-91FF-DE105A21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B0C-081D-41FD-BB5D-1DB4A9C2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589-C132-4E3D-82EC-A8B378EA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928-C9A3-43D9-A228-25F8C4E8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919-6BB0-4890-BF29-9F211D2F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9CB-25F6-4381-9EFE-00996348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FC9-32EF-4250-83F6-B1E4E65A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10F-518C-473D-846A-EF6A07C6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1A8-768D-4430-B52E-3619D811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D49-20F6-4EB8-8580-61912EF7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0AD-2354-45F1-89CC-4140684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EE5-D4E6-4C61-84DA-F9E9B12C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ED7D7-4748-4EC8-9656-A5B542691C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