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76393"/>
        <c:axId val="65561495"/>
      </c:barChart>
      <c:catAx>
        <c:axId val="273763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61495"/>
        <c:crosses val="autoZero"/>
        <c:auto val="1"/>
        <c:lblAlgn val="ctr"/>
        <c:lblOffset val="100"/>
        <c:noMultiLvlLbl val="0"/>
      </c:catAx>
      <c:valAx>
        <c:axId val="65561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763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976-A70A-494A-8909-221D0FD6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250-4CD9-40B1-93D7-4065CE0A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3AE-EBD3-4C51-A682-0872CED8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D6B-B00B-4CFF-8468-9F0368CB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E3B-06C7-45BA-843C-D7158647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483-5F24-4DEB-9DBA-4F2D3B47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3BA-DF20-4FCD-8FE5-365308A9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6AC-0D46-4A9A-A6AD-4A402378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184-3107-41AE-89D4-4F2A60E0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0C1-0010-4DCB-B759-4AB2287F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77A-F2FC-4ED9-B525-1C5E6E83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77F-6D2C-4A37-B695-155E72A5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B4EF6-3F44-4FD2-8696-4D855DE03D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