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13650"/>
        <c:axId val="25120727"/>
      </c:barChart>
      <c:catAx>
        <c:axId val="32913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0727"/>
        <c:crosses val="autoZero"/>
        <c:auto val="1"/>
        <c:lblAlgn val="ctr"/>
        <c:lblOffset val="100"/>
        <c:noMultiLvlLbl val="0"/>
      </c:catAx>
      <c:valAx>
        <c:axId val="25120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13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61E-E5C4-4648-8431-50934345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223-D15E-4C04-BFD1-35025230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B64-F2D7-4BBB-A2CA-F59B659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F30-2C3D-4808-8BA0-EA819DA7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FD9-D907-425F-A79C-144786B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4C4-93C1-4606-AD06-19703B92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33F-096C-485F-9463-8ADF4BEA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B38-6D36-43A7-94B0-E4B0888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946-CB6D-4019-8262-5EE73E7E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6D1-C234-46B1-8BD2-0AF0F42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DDC-2FF3-430D-8D0A-7D3DA8B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DFC-E2B9-450D-880B-85F903F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223C7-E8C3-4A9F-A8A3-4B7AB6528A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