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91468"/>
        <c:axId val="98218789"/>
      </c:barChart>
      <c:catAx>
        <c:axId val="56291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18789"/>
        <c:crosses val="autoZero"/>
        <c:auto val="1"/>
        <c:lblAlgn val="ctr"/>
        <c:lblOffset val="100"/>
        <c:noMultiLvlLbl val="0"/>
      </c:catAx>
      <c:valAx>
        <c:axId val="98218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91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3A2-D921-443F-938D-74BFA8FF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F6A-067A-48DF-B680-56938317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03E-F93C-4CF1-B397-F81D7E06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40B-89E7-42D7-8248-E6AEC74A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568-35F4-4E5F-B310-C78BC93A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D3D-7B50-4D28-BE11-5663717A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B5B-9E89-4DAE-918B-3E03D059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00A-BE03-4EDE-A9C8-A4C72F33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6C7-062C-4FB9-BAAD-F27F9DA1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4AC-EC88-4D02-B7D9-5F6B9DBC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B51-DE13-4E15-8B86-6F1F39C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663-8E9D-4AC1-BC78-8A5C5020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FEB26-CBD7-429C-9C3D-4B862743B8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