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85417"/>
        <c:axId val="73281370"/>
      </c:barChart>
      <c:catAx>
        <c:axId val="51685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81370"/>
        <c:crosses val="autoZero"/>
        <c:auto val="1"/>
        <c:lblAlgn val="ctr"/>
        <c:lblOffset val="100"/>
        <c:noMultiLvlLbl val="0"/>
      </c:catAx>
      <c:valAx>
        <c:axId val="73281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5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19E-A8C6-40FA-BD06-0E126638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BFE-5B1F-46D1-A096-9A0D001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2A8-7BD3-456E-B796-C75FCAD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F19-0E2B-4543-B3FA-A7A73B89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33B-51B9-4E9E-9A91-629EF5B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0BB-24BB-4CC5-9AF4-93EEB4B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D88-DFD0-4C9E-9A25-B2BD8DD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BAB-A060-4252-8A6E-AC36998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D9D-99FF-4CAB-B32D-C2398921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0E5-8D76-412F-8EFB-EBA625C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424-B168-4825-A67D-CB1434B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F65-9F7D-4733-8A76-7A4DC19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41309-5699-42C3-9274-C5510C57B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