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932398"/>
        <c:axId val="8021559"/>
      </c:barChart>
      <c:catAx>
        <c:axId val="389323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1559"/>
        <c:crosses val="autoZero"/>
        <c:auto val="1"/>
        <c:lblAlgn val="ctr"/>
        <c:lblOffset val="100"/>
        <c:noMultiLvlLbl val="0"/>
      </c:catAx>
      <c:valAx>
        <c:axId val="80215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323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11AF-1257-480B-BC2B-F7FE579AF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19C1-5B79-4D9D-86F0-55EFF95D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129E-13A9-4D15-9D49-D0FB3B8A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4E87-C257-43EF-8324-9E2D68D9E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8CF2-B33D-4D44-B27D-9D789ACB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09D5-CC7F-45F3-BC2D-5338A8F3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B837-1901-4DD6-9C42-028BDF21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DE52-93FE-4C0D-8766-6B1046DC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30D1-64E8-491E-B08C-858B336A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2365-B32B-4ECB-A8EB-2B4FA905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158D-EBDD-43F0-B375-A07A79ED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A16F-0BC8-4B1F-911D-E6EFC1D4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2FF7D-5B0E-48F0-BE75-727AAD7196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