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84687"/>
        <c:axId val="87988910"/>
      </c:barChart>
      <c:catAx>
        <c:axId val="44184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88910"/>
        <c:crosses val="autoZero"/>
        <c:auto val="1"/>
        <c:lblAlgn val="ctr"/>
        <c:lblOffset val="100"/>
        <c:noMultiLvlLbl val="0"/>
      </c:catAx>
      <c:valAx>
        <c:axId val="87988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84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43D-F041-40E5-A591-BBE5B8EF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35E-19C4-4488-94EF-99B81640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32A-04DB-461F-A6F0-1403D091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F60-C85A-42D4-9CF7-B6892FAB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FCA-688C-4823-89B9-BDBF481D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0D3-C6F0-4368-89FD-1C0336C1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C5D-9132-4DCA-8E39-023176A6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EA3-41CE-4A3D-AEC4-2A56E389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250-34D4-49D3-8388-750053BD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C162-06D7-4DC8-A774-7591B2BE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0DB-B91C-4DC9-9065-4335E9F9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49D-5BC6-4F01-8452-56721CB9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52BBF-2FC8-4789-AB15-D99FEFC6E3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