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86626"/>
        <c:axId val="10410670"/>
      </c:barChart>
      <c:catAx>
        <c:axId val="51866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10670"/>
        <c:crosses val="autoZero"/>
        <c:auto val="1"/>
        <c:lblAlgn val="ctr"/>
        <c:lblOffset val="100"/>
        <c:noMultiLvlLbl val="0"/>
      </c:catAx>
      <c:valAx>
        <c:axId val="104106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66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7C5-10B7-41E4-B43C-17746ECD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9C7-FBE8-4DDF-BC2B-96B5BAB1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D78-B4C1-42B4-8F7A-7F1A5D89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4CE0-F6C3-4B71-BA91-90AB15C0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97AC-99A8-4E06-8C03-76B2F60B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F547-D2B6-4146-BCC6-97E91AF6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E7D6-DFCF-49B7-8AC2-F31AB16F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942B-8048-43DF-A636-39E0C3F1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BCDB-A6EC-46CB-A8A0-008A6584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C38-A7C4-4662-91CB-4FDD0745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6C6B-010E-4586-94A7-91F44FD3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8A1-4F17-4863-9AD8-6A775BE8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B5956-5C93-43F7-917F-6C6F64339A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