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88848"/>
        <c:axId val="27056860"/>
      </c:barChart>
      <c:catAx>
        <c:axId val="75088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56860"/>
        <c:crosses val="autoZero"/>
        <c:auto val="1"/>
        <c:lblAlgn val="ctr"/>
        <c:lblOffset val="100"/>
        <c:noMultiLvlLbl val="0"/>
      </c:catAx>
      <c:valAx>
        <c:axId val="27056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88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F33-DB37-4757-B4C1-B05E31CA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718-03D6-4502-876F-53C8478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C57-2AF6-46DD-9010-A8EC8984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6D9-4175-4B1A-89AF-A8485F9A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8BD-2454-4209-A622-BC64212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DFD-A62A-416E-9EED-F078CC7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190-2EA2-46CD-9F84-44CB6C48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F8E-4967-4F18-8565-A0F8AF1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3C6-6154-4954-B640-5C40618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081-7C20-4734-82E2-CE3FB53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17C-CEBA-43E9-BEAC-55B5F2F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B40-85C3-40C3-AB8D-6EEA744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ADA9-8AB8-431B-BAA0-740605C2AC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