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85463"/>
        <c:axId val="10831472"/>
      </c:barChart>
      <c:catAx>
        <c:axId val="541854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31472"/>
        <c:crosses val="autoZero"/>
        <c:auto val="1"/>
        <c:lblAlgn val="ctr"/>
        <c:lblOffset val="100"/>
        <c:noMultiLvlLbl val="0"/>
      </c:catAx>
      <c:valAx>
        <c:axId val="108314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854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AA8-7ED5-4B75-A40E-DF9FE9DB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7351-3B6A-4524-AC6E-1C345706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990A-A065-448E-88A5-846577F2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C13E-ABAF-4CB5-BB22-8908D3A5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EFB-6CAB-4592-8934-7387B62B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CA2B-802E-4681-A900-05A87A66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9B2D-6B5B-4C66-B51A-8B2B7E44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A9F4-EF29-44FE-BA3C-A101ABC8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703A-E96F-46A4-B064-348D9E36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FCED-C77F-46EE-94D7-24D153E7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385A-7DB9-4691-9FE9-DB167E95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563-7E7B-482E-B3A4-DE567B2C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701EA-B8C7-4E21-AAE5-AB253A8CDF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