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65495"/>
        <c:axId val="28886094"/>
      </c:barChart>
      <c:catAx>
        <c:axId val="74065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86094"/>
        <c:crosses val="autoZero"/>
        <c:auto val="1"/>
        <c:lblAlgn val="ctr"/>
        <c:lblOffset val="100"/>
        <c:noMultiLvlLbl val="0"/>
      </c:catAx>
      <c:valAx>
        <c:axId val="28886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5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344-E010-46B4-A4AA-8A8C8C0B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1C1-5A07-45FF-BE8F-3D9C326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11D-B3DD-476A-BD17-BADE55B6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ADD-03C9-4708-983C-87C6407E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A3A-066C-48EF-8886-2798852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84A-B4FC-40DA-B56E-44C8DFB1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6FD-6211-475A-AB68-85483A80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4CC-AD29-444B-92C3-E8C0BB7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299-745E-43DD-91E3-249AF0FF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746-A7B2-45F9-9D6C-B17C7B5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F93-15BE-46AD-99A8-398B741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EE2-DECE-4E3C-B061-AE6A630F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D7432-C4C0-4854-87DC-6F9FDE77C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