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42317"/>
        <c:axId val="54667689"/>
      </c:barChart>
      <c:catAx>
        <c:axId val="89042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67689"/>
        <c:crosses val="autoZero"/>
        <c:auto val="1"/>
        <c:lblAlgn val="ctr"/>
        <c:lblOffset val="100"/>
        <c:noMultiLvlLbl val="0"/>
      </c:catAx>
      <c:valAx>
        <c:axId val="54667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42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6BF-E9BC-448D-92EB-509A6F25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EC5-B23C-4777-8E97-ED8002A7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25D-6D04-4697-AE87-0A3D6BD8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069-2F6C-43B4-90BF-EB397010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7D7-B0F2-4711-92E6-42687505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CC0-DFB9-486C-971B-F53CC661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4F5-FFBB-44B2-9620-3A3ECCBB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7E1-5EBD-4BFF-9453-C5975926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3C6-A3DC-481A-B91F-78313EBF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AA8-BEAF-4227-ACF3-1B8648D4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9BB-0927-4EEB-A1B6-59AA180F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108-44F9-4308-AC8E-0A9EA49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273DD-C275-4415-B04C-DBEFEDC31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