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15529"/>
        <c:axId val="47833651"/>
      </c:barChart>
      <c:catAx>
        <c:axId val="17415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33651"/>
        <c:crosses val="autoZero"/>
        <c:auto val="1"/>
        <c:lblAlgn val="ctr"/>
        <c:lblOffset val="100"/>
        <c:noMultiLvlLbl val="0"/>
      </c:catAx>
      <c:valAx>
        <c:axId val="47833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15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3B9-DA6C-45D1-838B-7F7985C2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C23-57C1-4E3F-B710-94495B1F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C5A-E318-4427-910C-B69E652E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E29-6448-4EF0-A427-6003FC6E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BC1-6A72-4A95-B6A7-742CF657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0F7-B9C0-48A2-8D52-4D1DE7A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E40-2F85-467C-9C53-68C8DD1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5E7-6DA7-43F1-8D59-AF22438C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FC3-0423-4184-BB12-B28385A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074-C28E-4E78-B348-F4B019E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714-CDA8-4CA9-8CCE-ECD3E24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FA1-9335-4D3E-A9A3-A120673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EE3D3-A28A-4B11-BAC9-1EF228C3F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