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93142"/>
        <c:axId val="87903425"/>
      </c:barChart>
      <c:catAx>
        <c:axId val="82793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03425"/>
        <c:crosses val="autoZero"/>
        <c:auto val="1"/>
        <c:lblAlgn val="ctr"/>
        <c:lblOffset val="100"/>
        <c:noMultiLvlLbl val="0"/>
      </c:catAx>
      <c:valAx>
        <c:axId val="879034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93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656-556A-4C6F-A813-1E9A74D4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D94-9523-49AC-B4B0-7FD4D473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A01-3E7E-4097-9DBF-E91A77C3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1CC4-8D58-4A49-9890-B0196C20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C5C-2BE6-4008-8A02-04A094E6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810-DB38-4EAD-9640-C1FD399B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929-2DB3-4FDC-9AA2-E02D90B7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E4A-215F-4C5D-9E91-A769FCF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5B3-93BC-454C-BC5E-9A448255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DCF-2739-416D-A5E9-B5E20783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031-137D-49F8-A72A-EA393B94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CD0-389A-4195-94A7-CECBEBA2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8050B-C411-49B4-80FF-2E2C7F88C0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