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99119"/>
        <c:axId val="84226901"/>
      </c:barChart>
      <c:catAx>
        <c:axId val="44799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26901"/>
        <c:crosses val="autoZero"/>
        <c:auto val="1"/>
        <c:lblAlgn val="ctr"/>
        <c:lblOffset val="100"/>
        <c:noMultiLvlLbl val="0"/>
      </c:catAx>
      <c:valAx>
        <c:axId val="84226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99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1FD-8319-4D56-820D-239C6EA9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9FA-F349-4647-AE49-7911F25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115-484E-48B7-8059-6DBCAB70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3DC-7E49-497A-972F-5F8D8281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D6A-ECC4-47BB-BD80-0BB7130C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5AD-80C3-4A70-A6A5-4E2229D7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8A8-DAD9-4E57-AEE6-18A92E9C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E50-04F5-42A9-9632-DF44FEDE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6D8-1DE4-492D-885D-AA4C7D79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A22-17D8-48CF-988F-6C4E71BA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777-6D50-4B83-B98B-28A25A8A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76C-6746-4348-867F-E3C0228E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C9F48-F0FE-4A8A-8182-EBDC357FB9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