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40992"/>
        <c:axId val="75318938"/>
      </c:barChart>
      <c:catAx>
        <c:axId val="71840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18938"/>
        <c:crosses val="autoZero"/>
        <c:auto val="1"/>
        <c:lblAlgn val="ctr"/>
        <c:lblOffset val="100"/>
        <c:noMultiLvlLbl val="0"/>
      </c:catAx>
      <c:valAx>
        <c:axId val="75318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40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7F1A-DAAE-432D-9E96-7CCF3994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4FB-B508-438C-9820-E884CCC1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9A4-BF63-4313-B198-99AA02CB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F89-FF19-494E-AACC-8FBAF0DB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CCF7-392B-400C-A8F9-D1698304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F5D-2F5B-49D9-B86A-D5516CD5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1E5-7C10-43B9-9736-D632797F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1821-88D5-44B0-A327-EF198479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22D-6AAB-4316-81E7-FFDC53EB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0DF-6BEF-441B-94B4-C8DDB078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948-A01C-4430-88D1-5B9D90B2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FB69-04D0-4F19-98E6-29EBCC20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52868-4FD8-4F43-8479-196ACCF31F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