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13575"/>
        <c:axId val="19227778"/>
      </c:barChart>
      <c:catAx>
        <c:axId val="84013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27778"/>
        <c:crosses val="autoZero"/>
        <c:auto val="1"/>
        <c:lblAlgn val="ctr"/>
        <c:lblOffset val="100"/>
        <c:noMultiLvlLbl val="0"/>
      </c:catAx>
      <c:valAx>
        <c:axId val="19227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13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091-8811-49D9-A639-0EDEDF11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F26-909F-4A82-92C6-BCBA4F14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0A2-9571-4719-A477-54AFBE6B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09C-6CA3-4B9E-AB4F-B84D3253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4DE-72BD-481F-9AC4-B5F61C37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2EF-C3F8-4956-9BF1-606BA2DC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5D80-A907-4AAB-A935-AB43795A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654-7C14-4C4E-80E4-7A5C1070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A9C-9C4C-437A-9E35-0A9046DF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E8C-07CF-4BBE-81B9-17A756BE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2FB-65A4-4761-8D03-29C698D4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1C1-E7A8-4D15-A121-E231AD5D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FDEE1-3896-4F5E-B74C-0144E47303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