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531754"/>
        <c:axId val="87654071"/>
      </c:barChart>
      <c:catAx>
        <c:axId val="175317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54071"/>
        <c:crosses val="autoZero"/>
        <c:auto val="1"/>
        <c:lblAlgn val="ctr"/>
        <c:lblOffset val="100"/>
        <c:noMultiLvlLbl val="0"/>
      </c:catAx>
      <c:valAx>
        <c:axId val="876540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317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34A-47A4-4C55-A481-8F24F81B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834-F061-464D-A5DF-07C074E9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54DE-CA50-456E-AF27-3B8DE979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A55-0744-457D-BD93-0100B26F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9E6-229E-490F-A969-68E587A4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F4C-789A-4FA8-83D4-95FC9612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0B3-2ADC-4828-9B5A-F07038EA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FD9B-CFD6-4894-85AF-A4D01545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6EE3-20A9-4849-A9D2-2B4D04CA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AB4-412D-492E-8E49-879F7F51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8E4C-A5DB-4D8A-BF22-3D09E85E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391-3467-48AB-8B7C-0DF25412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0A50D-80C6-4728-85A0-95C7356EA4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