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920400"/>
        <c:axId val="56427205"/>
      </c:barChart>
      <c:catAx>
        <c:axId val="81920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27205"/>
        <c:crosses val="autoZero"/>
        <c:auto val="1"/>
        <c:lblAlgn val="ctr"/>
        <c:lblOffset val="100"/>
        <c:noMultiLvlLbl val="0"/>
      </c:catAx>
      <c:valAx>
        <c:axId val="564272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20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472-968E-4F0E-9421-4445163D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49F-F59F-4B4D-A834-FD58C375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B61-E6B4-49E1-B530-B1ADD53B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2BBF-87F2-46FD-9E7A-FC5B7850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BEA-8E3B-494A-92D9-C3AAC8E1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7A7-C0F2-4470-BAAE-1D44008E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BA6-29EC-4E3B-8548-CCB6A0F9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204-8A00-47A3-8356-E157CA20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BA7-E504-4DF7-9559-6BC0043C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1F8-79C7-4957-93DB-5BE48FF8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F34-6280-4103-9D93-75264A0B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639-2EE8-4534-94F7-4CCE038F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0057E-7930-45AD-AE5E-EA19B7BE54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