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6063"/>
        <c:axId val="5468871"/>
      </c:barChart>
      <c:catAx>
        <c:axId val="1160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8871"/>
        <c:crosses val="autoZero"/>
        <c:auto val="1"/>
        <c:lblAlgn val="ctr"/>
        <c:lblOffset val="100"/>
        <c:noMultiLvlLbl val="0"/>
      </c:catAx>
      <c:valAx>
        <c:axId val="54688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60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69ED-BA3D-49E7-9B4B-17EDFC80B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01D2-50BE-4D3B-BD74-6CEF740A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F5B7-A1AC-42B2-ACD7-2FF186BBF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15EB-2011-44C2-B566-0962535EB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6653-CDD9-4487-962C-73FC3338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8393-F4EC-4FBA-AAE0-F83110E2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EE61-8610-4750-B9A6-45EE5A5C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5422-E75E-4F16-A87D-4DE37AEE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223D-7B5A-434B-A32C-C6DEC009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785A-475E-4308-8FEF-0900A84F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6BA0-1DB0-4751-A340-AE0F1C82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89A7-F960-4B31-B56C-E9B09167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D770BC-D22C-4FDE-A533-F6779C00BD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