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94402"/>
        <c:axId val="38266227"/>
      </c:barChart>
      <c:catAx>
        <c:axId val="94994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66227"/>
        <c:crosses val="autoZero"/>
        <c:auto val="1"/>
        <c:lblAlgn val="ctr"/>
        <c:lblOffset val="100"/>
        <c:noMultiLvlLbl val="0"/>
      </c:catAx>
      <c:valAx>
        <c:axId val="38266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94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055-F5B1-4A5F-8097-119443A5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256-56F2-4A0B-8243-EF76C3D3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B85-AD35-4C81-9DD1-0C011147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C8D-0082-4285-B78F-B2015AE8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A6A-9084-4159-82BA-E4873FB6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7E2-0C71-45A7-9D38-1EDC71D5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ED9-A1CC-4A66-A9A5-D7F922AB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BE5-1F6B-45F9-B44A-3F345E02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B49-442C-48EA-98E9-49423A9F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3F3-FFB6-48E8-8EA0-958EDE88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E50-70EA-4437-818D-C390A424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50E-D510-4824-AF16-8A16721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31531-DF8E-4D19-8829-8240BA9E84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