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92454"/>
        <c:axId val="80236147"/>
      </c:barChart>
      <c:catAx>
        <c:axId val="30692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36147"/>
        <c:crosses val="autoZero"/>
        <c:auto val="1"/>
        <c:lblAlgn val="ctr"/>
        <c:lblOffset val="100"/>
        <c:noMultiLvlLbl val="0"/>
      </c:catAx>
      <c:valAx>
        <c:axId val="802361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92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7B1-5E6A-4F06-993C-BD655561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64E7-CFB7-4EAA-9CD4-9D1A84D2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99B-E7F4-4A96-AF74-5EA6C0FC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849E-9830-4BD4-9E0A-DBF5D2C5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657B-FB19-46FA-B245-62D72881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76A-8F4F-4A27-B1F9-FCDC1209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5AC-06BE-4E5E-98FF-9B229670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3AF-B747-42F5-8697-4025E851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FB7-1322-4C15-B485-6A4CE408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59E-BE96-4B83-AC5E-41EB7B0D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1F9-3687-4018-BC6E-742C5718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E5E-4A8E-44D0-B254-627771DA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B082E-3291-4C7A-81A1-FFFE01C73B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