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18284"/>
        <c:axId val="75380553"/>
      </c:barChart>
      <c:catAx>
        <c:axId val="572182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80553"/>
        <c:crosses val="autoZero"/>
        <c:auto val="1"/>
        <c:lblAlgn val="ctr"/>
        <c:lblOffset val="100"/>
        <c:noMultiLvlLbl val="0"/>
      </c:catAx>
      <c:valAx>
        <c:axId val="753805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182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4B2-81CD-4A27-A1F3-D69BC2E0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88CC-0092-4FC3-923C-219FBDBF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BC36-E273-4422-8DF6-2B10BF19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810-9A14-4147-A572-F911D8BB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2A2-5C7D-4D50-9E94-2F87963E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791-84AA-46E9-A10D-43055E42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C9C7-7ADE-4068-8DD2-B5330627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21F2-F99E-4C2D-8B14-36389D4E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5B15-6904-435B-AB25-6B0F3871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AEC-0AFA-4793-B383-2403B1DE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2826-E2CD-46CD-AFB5-9BB7C56B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799-8AA4-4C69-9CE3-495DDB7C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C4461-58B7-410C-BEF0-888EDAA3F2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