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179563"/>
        <c:axId val="67127051"/>
      </c:barChart>
      <c:catAx>
        <c:axId val="30179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27051"/>
        <c:crosses val="autoZero"/>
        <c:auto val="1"/>
        <c:lblAlgn val="ctr"/>
        <c:lblOffset val="100"/>
        <c:noMultiLvlLbl val="0"/>
      </c:catAx>
      <c:valAx>
        <c:axId val="67127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79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A2AD-5853-4AE9-9795-EC7B964B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4AD-2E47-4025-8671-23E47240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560-374E-4D1E-A4FE-C625AAA9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67E-4BDF-419A-B31E-7B7BD76E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6BA-8776-4502-9E87-854E764A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941-6DB8-4734-80FD-907413E9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5F7-272A-4AE9-97BC-BC581053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95C-0E8F-4CAE-B7DA-814C51D9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F4A-E71A-46C6-8CB6-00820440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2F2-6526-4BBE-97B9-21E3B268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F30-5B57-4F71-ADED-0F428344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6D6-0202-4D2C-B594-62749672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2B982-A73F-42EA-8F27-9A7B52CE4B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